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1502" spc="-1" strike="noStrike">
                <a:solidFill>
                  <a:srgbClr val="000000"/>
                </a:solidFill>
                <a:latin typeface="Arial"/>
              </a:defRPr>
            </a:pPr>
            <a:r>
              <a:rPr b="0" sz="1502" spc="-1" strike="noStrike">
                <a:solidFill>
                  <a:srgbClr val="000000"/>
                </a:solidFill>
                <a:latin typeface="Arial"/>
              </a:rPr>
              <a:t>MARIA JOSE</a:t>
            </a:r>
          </a:p>
        </c:rich>
      </c:tx>
      <c:layout>
        <c:manualLayout>
          <c:xMode val="edge"/>
          <c:yMode val="edge"/>
          <c:x val="0.439796429810695"/>
          <c:y val="0.0199368665891344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329143694336"/>
          <c:y val="0.183529932989976"/>
          <c:w val="0.95997995142075"/>
          <c:h val="0.796090158941131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Maria José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8"/>
                <c:pt idx="0">
                  <c:v>2008 agosto</c:v>
                </c:pt>
                <c:pt idx="1">
                  <c:v>2008 setembro</c:v>
                </c:pt>
                <c:pt idx="2">
                  <c:v>2008 outubro</c:v>
                </c:pt>
                <c:pt idx="3">
                  <c:v>2008 novembro</c:v>
                </c:pt>
                <c:pt idx="4">
                  <c:v>2009 março</c:v>
                </c:pt>
                <c:pt idx="5">
                  <c:v>2009 abril</c:v>
                </c:pt>
                <c:pt idx="6">
                  <c:v>2009 maio</c:v>
                </c:pt>
                <c:pt idx="7">
                  <c:v>2009 junho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8"/>
                <c:pt idx="0">
                  <c:v>35</c:v>
                </c:pt>
                <c:pt idx="1">
                  <c:v>18.54</c:v>
                </c:pt>
                <c:pt idx="2">
                  <c:v>37.66</c:v>
                </c:pt>
                <c:pt idx="3">
                  <c:v>22.73</c:v>
                </c:pt>
                <c:pt idx="4">
                  <c:v>50.78</c:v>
                </c:pt>
                <c:pt idx="5">
                  <c:v>60.63</c:v>
                </c:pt>
                <c:pt idx="6">
                  <c:v>97.56</c:v>
                </c:pt>
                <c:pt idx="7">
                  <c:v>84.57</c:v>
                </c:pt>
              </c:numCache>
            </c:numRef>
          </c:val>
        </c:ser>
        <c:gapWidth val="100"/>
        <c:overlap val="0"/>
        <c:axId val="50852256"/>
        <c:axId val="30784124"/>
      </c:barChart>
      <c:catAx>
        <c:axId val="50852256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1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784124"/>
        <c:crossesAt val="0"/>
        <c:auto val="1"/>
        <c:lblAlgn val="ctr"/>
        <c:lblOffset val="100"/>
        <c:noMultiLvlLbl val="0"/>
      </c:catAx>
      <c:valAx>
        <c:axId val="307841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852256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2108" spc="-1" strike="noStrike">
                <a:solidFill>
                  <a:srgbClr val="000000"/>
                </a:solidFill>
                <a:latin typeface="Arial"/>
              </a:defRPr>
            </a:pPr>
            <a:r>
              <a:rPr b="0" sz="2108" spc="-1" strike="noStrike">
                <a:solidFill>
                  <a:srgbClr val="000000"/>
                </a:solidFill>
                <a:latin typeface="Arial"/>
              </a:rPr>
              <a:t>MARIA JOSÉ 2008</a:t>
            </a:r>
          </a:p>
        </c:rich>
      </c:tx>
      <c:layout>
        <c:manualLayout>
          <c:xMode val="edge"/>
          <c:yMode val="edge"/>
          <c:x val="0.382314594677506"/>
          <c:y val="0.0197827144478677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401794616152"/>
          <c:y val="0.163883033349549"/>
          <c:w val="0.80416442978756"/>
          <c:h val="0.796227230960489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DIPONIVEL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5"/>
                <c:pt idx="0">
                  <c:v>Agosto</c:v>
                </c:pt>
                <c:pt idx="1">
                  <c:v>Setembro</c:v>
                </c:pt>
                <c:pt idx="2">
                  <c:v>Outubro</c:v>
                </c:pt>
                <c:pt idx="3">
                  <c:v>Novembro</c:v>
                </c:pt>
                <c:pt idx="4">
                  <c:v>TOTAL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5"/>
                <c:pt idx="0">
                  <c:v>120</c:v>
                </c:pt>
                <c:pt idx="1">
                  <c:v>205</c:v>
                </c:pt>
                <c:pt idx="2">
                  <c:v>154</c:v>
                </c:pt>
                <c:pt idx="3">
                  <c:v>176</c:v>
                </c:pt>
                <c:pt idx="4">
                  <c:v>65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UTILIZADA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5"/>
                <c:pt idx="0">
                  <c:v>Agosto</c:v>
                </c:pt>
                <c:pt idx="1">
                  <c:v>Setembro</c:v>
                </c:pt>
                <c:pt idx="2">
                  <c:v>Outubro</c:v>
                </c:pt>
                <c:pt idx="3">
                  <c:v>Novembro</c:v>
                </c:pt>
                <c:pt idx="4">
                  <c:v>TOTAL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5"/>
                <c:pt idx="0">
                  <c:v>42</c:v>
                </c:pt>
                <c:pt idx="1">
                  <c:v>38</c:v>
                </c:pt>
                <c:pt idx="2">
                  <c:v>58</c:v>
                </c:pt>
                <c:pt idx="3">
                  <c:v>40</c:v>
                </c:pt>
                <c:pt idx="4">
                  <c:v>178</c:v>
                </c:pt>
              </c:numCache>
            </c:numRef>
          </c:val>
        </c:ser>
        <c:gapWidth val="100"/>
        <c:overlap val="0"/>
        <c:axId val="40629247"/>
        <c:axId val="33892336"/>
      </c:barChart>
      <c:catAx>
        <c:axId val="40629247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892336"/>
        <c:crossesAt val="0"/>
        <c:auto val="1"/>
        <c:lblAlgn val="ctr"/>
        <c:lblOffset val="100"/>
        <c:noMultiLvlLbl val="0"/>
      </c:catAx>
      <c:valAx>
        <c:axId val="338923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629247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layout>
        <c:manualLayout>
          <c:xMode val="edge"/>
          <c:yMode val="edge"/>
          <c:x val="0.844159828207685"/>
          <c:y val="0.383006323982487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297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0"/>
    <c:dispBlanksAs val="gap"/>
  </c:chart>
  <c:spPr>
    <a:solidFill>
      <a:srgbClr val="ffffff"/>
    </a:solidFill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2093" spc="-1" strike="noStrike">
                <a:solidFill>
                  <a:srgbClr val="000000"/>
                </a:solidFill>
                <a:latin typeface="Arial"/>
              </a:defRPr>
            </a:pPr>
            <a:r>
              <a:rPr b="0" sz="2093" spc="-1" strike="noStrike">
                <a:solidFill>
                  <a:srgbClr val="000000"/>
                </a:solidFill>
                <a:latin typeface="Arial"/>
              </a:rPr>
              <a:t>MARIA JOSÉ 2009</a:t>
            </a:r>
          </a:p>
        </c:rich>
      </c:tx>
      <c:layout>
        <c:manualLayout>
          <c:xMode val="edge"/>
          <c:yMode val="edge"/>
          <c:x val="0.382754509441945"/>
          <c:y val="0.0198689838124628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223106803585"/>
          <c:y val="0.170104488116507"/>
          <c:w val="0.804853659474636"/>
          <c:h val="0.789724432894808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DIPONIVEL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5"/>
                <c:pt idx="0">
                  <c:v>Março</c:v>
                </c:pt>
                <c:pt idx="1">
                  <c:v>Abril</c:v>
                </c:pt>
                <c:pt idx="2">
                  <c:v>Maio</c:v>
                </c:pt>
                <c:pt idx="3">
                  <c:v>Junho</c:v>
                </c:pt>
                <c:pt idx="4">
                  <c:v>TOTAL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5"/>
                <c:pt idx="0">
                  <c:v>128</c:v>
                </c:pt>
                <c:pt idx="1">
                  <c:v>127</c:v>
                </c:pt>
                <c:pt idx="2">
                  <c:v>164</c:v>
                </c:pt>
                <c:pt idx="3">
                  <c:v>162</c:v>
                </c:pt>
                <c:pt idx="4">
                  <c:v>581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UTILIZADA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5"/>
                <c:pt idx="0">
                  <c:v>Março</c:v>
                </c:pt>
                <c:pt idx="1">
                  <c:v>Abril</c:v>
                </c:pt>
                <c:pt idx="2">
                  <c:v>Maio</c:v>
                </c:pt>
                <c:pt idx="3">
                  <c:v>Junho</c:v>
                </c:pt>
                <c:pt idx="4">
                  <c:v>TOTAL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5"/>
                <c:pt idx="0">
                  <c:v>65</c:v>
                </c:pt>
                <c:pt idx="1">
                  <c:v>77</c:v>
                </c:pt>
                <c:pt idx="2">
                  <c:v>160</c:v>
                </c:pt>
                <c:pt idx="3">
                  <c:v>137</c:v>
                </c:pt>
                <c:pt idx="4">
                  <c:v>439</c:v>
                </c:pt>
              </c:numCache>
            </c:numRef>
          </c:val>
        </c:ser>
        <c:gapWidth val="100"/>
        <c:overlap val="0"/>
        <c:axId val="16287106"/>
        <c:axId val="38454292"/>
      </c:barChart>
      <c:catAx>
        <c:axId val="16287106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454292"/>
        <c:crossesAt val="0"/>
        <c:auto val="1"/>
        <c:lblAlgn val="ctr"/>
        <c:lblOffset val="100"/>
        <c:noMultiLvlLbl val="0"/>
      </c:catAx>
      <c:valAx>
        <c:axId val="384542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287106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layout>
        <c:manualLayout>
          <c:xMode val="edge"/>
          <c:yMode val="edge"/>
          <c:x val="0.844659820776124"/>
          <c:y val="0.377294136754913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288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0"/>
    <c:dispBlanksAs val="gap"/>
  </c:chart>
  <c:spPr>
    <a:solidFill>
      <a:srgbClr val="ffffff"/>
    </a:solidFill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4D3B29-F1EC-4ED1-AE91-308A5BDD37C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5009-64BF-4918-BDA1-EC16B9D1F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D47C-8AFC-4F3B-99F2-AB4A09AA2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9C7A-ACBD-4F6E-9A58-5897762AE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1851-FE29-41C0-8330-512D4CB87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795D-6B4B-4D99-9812-B02AD0F50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EE62-4DE9-44CF-AA7E-8A91A94D5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B27D-A52A-4BDC-8078-3F4A6A6A5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E6FE-F488-45E2-910B-C043D458A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0E2A-4B76-437B-8775-D42F1ABF7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8185-ABF1-4D97-881F-05AF4DBD3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EE30-C4AA-47B7-9F46-EEEB9F96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2BFD-BB95-49EC-9A69-B3AFD11D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53DDD5-78A9-487C-82A4-07D04224D8F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382680" y="519120"/>
          <a:ext cx="9337680" cy="65008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331920" y="360360"/>
          <a:ext cx="9388440" cy="665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360360" y="371520"/>
          <a:ext cx="9360000" cy="66484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9T18:42:48Z</dcterms:created>
  <dc:creator/>
  <dc:description/>
  <dc:language>en-US</dc:language>
  <cp:lastModifiedBy/>
  <cp:revision>1</cp:revision>
  <dc:subject/>
  <dc:title/>
</cp:coreProperties>
</file>